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2CAB-913C-4B16-890F-E61F014B8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3803-DD0F-4739-A893-930439423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E154-7D6E-42E2-B618-A9141B99B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7E47-5607-4DD3-B57F-236A0579E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3781-E749-479B-B105-19DFE29C2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2160-5784-4342-9950-C3CA382CA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ACCE-C44F-4C6F-9ECA-E320C92C5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5C6E-6816-455E-8085-13B2F8FD1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3B8B-88BB-488A-AF3A-17FC12F82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A549-1D36-4FD2-A65F-60942E6E2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96F3-D4B3-450E-B4DE-8015DF06B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89F6-B80F-469F-AE03-0DF3B9656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D5BE-2792-48C5-890C-3C1BEC45F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844E-641E-458A-AC88-EC3A0FF3A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6CCC-F6AE-48A3-8C81-3847ECB35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E67D-6DE9-4A7E-9730-FA823B260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F586-434A-415B-BBD4-9140575AC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CDF8-F237-4B96-BDE8-E5649EB31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50DF-096B-4E87-B8CE-F59B568FF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3473-41EA-43A5-9099-AE5812FCA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0238-1800-4E0E-99AC-8FB89FA7C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F90A-301C-4DB1-84D3-1411F5FF1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2E12-7801-44F9-9ACD-0F5D7BF79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21A4-121C-4A8C-A71C-15B838A28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09F3-B79F-4F04-AFC6-D27CAC3E2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AA2A-17BB-4791-B7BE-C97612823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0792-503B-4CAE-B424-37FE62664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165D-079F-4652-AAF6-4FACE5361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EDC0-08B6-4A69-AD69-39A45D19E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1CA1-C341-414D-8830-924E4DCE1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F435-8CE4-48F2-892F-8046AF8F1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7A53-8ACB-4283-9666-9339D6B1E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E037-C175-4CDB-9132-47ED0F910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FF3C-01D8-45FD-93BB-D4E738FCD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ACEA-93DA-49A7-B4B8-8FC6C709C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B9FC-4DDA-4DB3-8311-8C1427C6D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C001-BF05-4F06-A17C-BA917A05C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ACC6-8245-4EA7-9B86-FD22C0109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9BE4-9AAE-4C27-BF1E-275C3E360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69B9-E0A3-4D77-9970-E1A18AAD5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1161-5132-4B8C-8F1C-39A0ABA68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B73B-4448-458A-9752-B0059DD68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2AF0-3D68-4BFB-B35C-9AF829FA9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6B8B-99D6-4DB5-AEDC-47B754792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57D0-3FAD-49AD-9CA5-6C36F2E86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2D93-3659-43B9-B2B4-93194DF43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8D0D-1D51-4146-95FD-D6D51F663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4FE1-9F86-4D64-8C94-DE760E108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BAC7-A1DC-46E8-B309-F90B119EB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81E2-86D0-4ABC-BCAC-48C2A2EDE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4EA9-94DA-4DD1-9228-11A39730E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520D-E216-46EB-B38D-F5D794C28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9D4-E6A4-46AE-9463-FF1E5423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31A-23D3-4719-9EDE-D833912B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8C7-E215-4C45-8444-6B3E9D21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95C-AF18-45DE-BC24-94953F91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697-A25C-43B5-9969-D019E62A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650-FD85-4DF3-B674-AB62526A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40C-A685-4D08-A8B5-E8AEC135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8EE-FC64-49C9-A83F-6F25B791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13D-DF94-433F-9B7C-3C6F66C2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647-2C60-4F6C-94B5-6B8ED33B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D18-D30F-4773-A0C3-EE2ED0B5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E36-1CCA-448F-A7AF-2012EB51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27FA-565E-4D52-9C5C-192934266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o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that flows from the sun through organis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 pyram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35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biome gets less than 25 centimeters of rain or snow each ye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ese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greens are mainly in this forest bi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aiga Bi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03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biome is near the equator and is very w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ropical Rainfore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5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764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ly small plants can grow during a very short warm season in this very cold bi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undra Bi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057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of same species in same area, at the same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forests lose their leaves in the f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Deciduous Forest Bio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3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light does not reach this deep water and animals eat dead plants that sink from abov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The Deep Se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3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ater ecosystem has many other animals besides fish that live on la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i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ater Biome cleans the water with it’s soil, plants and other tiny organis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Wetla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al Reefs has two specific characteristics, what are they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hallow warm waters that have sunlight that penetrates the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pu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a place where river water runs into the ocean. Who am I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estu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8576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every organism need to stay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pace, air,water, light, food, and ai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uffalo and cattle egret have a symbiotic relationship whe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rganism is helped and the other is not affected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76040" cy="73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icroorganisms inside a buffalo’s intestines feed off of the buffalo’s digestive system, both organisms are………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oth organisms are help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 parasite inside a buffalo starts to weaken the buffalo or make it sick, one organism is __________ and one is 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one organism is helped and one is hu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lace where a species live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ype of symbiosis has lichen’s fungus and bacteria depending on each other to 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tay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eat waste or dead organisms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decompos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cannot make our own food, but all animals are us; what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consum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ake our own food for energy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produc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9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07640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uffalo with the parasite inside of it’s body, with the parasite weakening it is called     _ _ _ 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ho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abit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moves through an ecosystem three different ways, which are 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food chains, energy chains, or food web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ole an organism has in an eco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ich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08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the populations in an eco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ommun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3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udsd</cp:lastModifiedBy>
  <dcterms:modified xsi:type="dcterms:W3CDTF">2010-11-04T17:34:09Z</dcterms:modified>
  <cp:revision>59</cp:revision>
  <dc:subject/>
  <dc:title>No Slide Title</dc:title>
</cp:coreProperties>
</file>